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F2D-2EFB-4ED2-9F60-4CE6CD4D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300-2D12-4CCA-9E92-5EDABB6A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78E-949A-4B04-9083-D59C566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8FC-A137-4DAE-9E4C-CD79D0C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FAB-C522-4A53-BFA4-488F575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59-CA2F-486C-BD0B-9A100DA2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90E-79B5-47AA-BB67-A0445D8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97F-388A-4B21-8F17-5D8DAB6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316-201A-4671-9FA1-32D8DFD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3D8-F9B0-4667-9885-AF68D79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5D2-B93C-400C-BF0B-19AE9EB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635-8BF3-4843-9B8C-208CCBD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12A7-D799-416D-8889-BCC40B024A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5105520"/>
            <a:ext cx="822960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最“爱”的那个人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5308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228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一种笑容叫无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907400" y="2544840"/>
            <a:ext cx="733320" cy="9216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28440" y="457200"/>
            <a:ext cx="1642680" cy="548640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3490d"/>
                </a:solidFill>
                <a:latin typeface="Times New Roman"/>
                <a:ea typeface="金桥简行楷"/>
              </a:rPr>
              <a:t>社会</a:t>
            </a:r>
            <a:r>
              <a:rPr b="1" lang="zh-CN" sz="4800" spc="-1" strike="noStrike">
                <a:solidFill>
                  <a:srgbClr val="f3490d"/>
                </a:solidFill>
                <a:latin typeface="宋体"/>
                <a:ea typeface="金桥简行楷"/>
              </a:rPr>
              <a:t>需要</a:t>
            </a:r>
            <a:r>
              <a:rPr b="1" lang="zh-CN" sz="4800" spc="-1" strike="noStrike">
                <a:solidFill>
                  <a:srgbClr val="f3490d"/>
                </a:solidFill>
                <a:latin typeface="Times New Roman"/>
                <a:ea typeface="金桥简行楷"/>
              </a:rPr>
              <a:t>大家的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0440" y="145080"/>
            <a:ext cx="8506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ahoma"/>
              </a:rPr>
              <a:t>无偿献血造福他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  爱  无  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150720"/>
            <a:ext cx="84963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600200"/>
            <a:ext cx="64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难忘、牵挂、羡慕、尊敬、感激、怀念、讨厌、憎恨喜欢、佩服、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467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想   一   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、回忆成长的每一阶段，谁对你付出最多？是什么？（谁给你的印象最深刻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学前：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幼儿园：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学：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初中：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二、在何种情况下，你第一个想到的是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三、请你以自己对家庭生活的感受和体验完成下面比喻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家象————，因为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895480"/>
            <a:ext cx="9315360" cy="12573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说   一   说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下面不同的画面选择一个，讲述生活中真实的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求：口齿清楚，内容充实，具有真情实感（可以同桌讨论一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1905120" cy="175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86200" y="4038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81680" y="40384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12573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990099"/>
                </a:solidFill>
                <a:latin typeface="Times New Roman"/>
              </a:rPr>
              <a:t>写   一   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最“爱”的那个人》为题，写一篇不少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字的作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733920"/>
            <a:ext cx="4267080" cy="2438280"/>
          </a:xfrm>
          <a:prstGeom prst="cloudCallout">
            <a:avLst>
              <a:gd name="adj1" fmla="val -65513"/>
              <a:gd name="adj2" fmla="val 569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生活中不乏“爱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但缺少发现“爱”的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09600"/>
            <a:ext cx="9220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旨词：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事者：我，我们，大家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范围：世界   目标：充满  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实际含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关爱身边每一个人，如你身边的同学遇到困难，被人歧视等等。（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同学父母亲友老师等等熟悉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同在一片蓝天下。关爱身边的贫困人群，那些摆摊的，那些捡破烂的……（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陌生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人都献出一点爱心，如巴基斯坦地震，印尼海啸，意外事故，失学同龄人……（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国际情怀，大同思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04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聊   一    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9720" y="2286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种观望叫冷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12240" cy="540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28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素材提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种辛酸叫自食其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29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397480" cy="777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562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动的自食其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有一种飘泊叫家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320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种东西叫牵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37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762440" cy="6350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“亲吻”叫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拯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位悲痛的母亲是老山战士赵占英的母亲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清明期间，她由侄儿侄媳陪同来到云南麻粟坡烈士陵园看望牺牲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的儿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7007400" cy="525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种精神叫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报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762440" cy="670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81560" y="507960"/>
            <a:ext cx="4762440" cy="635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95288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种感动叫分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172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种等待叫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03:43:31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7:19Z</dcterms:modified>
  <cp:revision>9</cp:revision>
  <dc:subject>主题班会课件(分28大类): http://shop62905894.taobao.com</dc:subject>
  <dc:title>主题班会课件(分28大类): http://shop62905894.taobao.com</dc:title>
</cp:coreProperties>
</file>